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811-9A00-4F2D-B3FA-3FA34670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2C1-FE88-4D9C-B22F-E811F9A3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CCF-74B7-49E0-B0FD-2291D15A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30C-F449-4CFB-AFF6-3E4B1541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355-7E57-42D2-A14B-0F6C0E14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AE0-3439-4194-812B-1422F953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A43-6847-4664-9132-447818CC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D94-0F90-452B-BF05-04AFA1C3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23B-1E31-416E-A62B-C7028CFD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E59-85EE-4542-ACE7-4AD4F5F3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446-DA84-4E94-A415-85DDAAC0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C1A-6A10-47BC-A719-E1999C3E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E000-334E-4D25-9B31-3A70C1FCD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Blackadder ITC"/>
              </a:rPr>
              <a:t>Las Comid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Por: Maggie Pari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a 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2280" y="1523880"/>
            <a:ext cx="265752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00800" y="12193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56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Guf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486400" y="3505320"/>
            <a:ext cx="2181240" cy="209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4080" y="2057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uevos revueltos con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5715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 bebo 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2971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alada de f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ara El Almuerzo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2743200" cy="20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1914480" cy="239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3886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bebo la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4800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5053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san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400800" y="4038480"/>
            <a:ext cx="1981080" cy="23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00600" y="5257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ntique Olive Roman"/>
              </a:rPr>
              <a:t>Un zanaj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ar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a Meriend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762120"/>
            <a:ext cx="2571840" cy="178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479600" cy="211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886200" y="2819520"/>
            <a:ext cx="2468520" cy="308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5105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 bebo la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Cheez-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990720" y="3581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7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F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Bradley Hand ITC"/>
              </a:rPr>
              <a:t>Para La Cen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80880" y="2209680"/>
            <a:ext cx="2924280" cy="1943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248520" y="1752480"/>
            <a:ext cx="2743200" cy="1824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9880" y="4114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Yo bebo 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4191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El </a:t>
            </a: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pescado</a:t>
            </a:r>
            <a:r>
              <a:rPr b="0" lang="en-US" sz="1800" spc="-1" strike="noStrike">
                <a:solidFill>
                  <a:srgbClr val="ffffff"/>
                </a:solidFill>
                <a:latin typeface="Bradley Hand ITC"/>
              </a:rPr>
              <a:t> con judias ver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95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El pollo a la parmesana con p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895480" y="48006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817960" y="552780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Las judias ver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Bodoni MT Condensed"/>
              </a:rPr>
              <a:t>Para El Postr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Bodoni MT Condensed"/>
              </a:rPr>
              <a:t>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1743120" cy="2629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275256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248520" y="2895480"/>
            <a:ext cx="2628720" cy="1743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08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El He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6483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Las galletas con chispas de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876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La chocolate t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219320"/>
            <a:ext cx="5715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Bodoni MT Black"/>
              </a:rPr>
              <a:t>El             Fi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7:01Z</dcterms:created>
  <dc:creator>parisimag</dc:creator>
  <dc:description/>
  <dc:language>en-US</dc:language>
  <cp:lastModifiedBy>parisimag</cp:lastModifiedBy>
  <dcterms:modified xsi:type="dcterms:W3CDTF">2012-04-05T17:14:54Z</dcterms:modified>
  <cp:revision>4</cp:revision>
  <dc:subject/>
  <dc:title>Las Comidas</dc:title>
</cp:coreProperties>
</file>